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09C3-2925-4EBE-9BEA-6128B2607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A73D-2C49-4974-A4E0-D02968CA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913E-9A31-4124-A228-CE160902E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2BF4-784A-4A47-A46B-B0FBFA79D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D1D8-617B-4556-81C5-9BB8C77A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2D43-AFD3-42B3-8F90-278D9A89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C52D-BD53-407B-9180-990EBFF8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651A-FCBA-41D2-B09C-3CAB7E30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B8CA-2705-4D35-B45D-FBA0FA04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CEF7-2770-4812-9451-7D5A9B08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7924-E4E6-4E4F-B11B-5EB5680A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92D7-8C84-47FB-809F-6A27C925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9909-BF44-4D5B-B791-D6ADA8468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ottom Lin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ch From the He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pired by Parker Palmer’s book “Teach from the Hear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708360" y="907920"/>
            <a:ext cx="4896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your heart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ne with integrity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 from within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ieve in yourself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2781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59280" y="2060280"/>
            <a:ext cx="4284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difference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 with other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the magic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nder of discover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195560"/>
            <a:ext cx="5003640" cy="47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773360"/>
            <a:ext cx="4140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safe-haven and Enrich the learning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e the soul and Discover new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211640" y="1600200"/>
            <a:ext cx="4932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413000"/>
            <a:ext cx="45720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 from the heart and  Find the persona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direct the learning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the TLite journe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716360" y="1600200"/>
            <a:ext cx="4427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the documents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manual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with colleagues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 hands-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76360" y="2492280"/>
            <a:ext cx="62643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4T04:47:08Z</dcterms:created>
  <dc:creator>Denise</dc:creator>
  <dc:description/>
  <dc:language>en-US</dc:language>
  <cp:lastModifiedBy>Denise</cp:lastModifiedBy>
  <dcterms:modified xsi:type="dcterms:W3CDTF">2008-05-04T06:25:23Z</dcterms:modified>
  <cp:revision>2</cp:revision>
  <dc:subject/>
  <dc:title>The Bottom Line: Teach From the Heart</dc:title>
</cp:coreProperties>
</file>